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F701B-6974-425F-BFC7-CA9402EB0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A3678-2EA9-4940-A935-F9CB7AD72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F0ED-9266-4FC5-BD0F-9A9E4592F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705BA-7870-47B3-8D53-29CA43A213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9A2B-5EF3-4F40-9F8D-E8CE5AF0ED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1157-90F2-4CCB-A481-60C42EDDC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2912-CDE1-4633-B546-3B8CAA49B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F711-84ED-40E1-A9D7-239A059C9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E8E7-02F9-43F1-ACA8-F19463F2D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C7C19-09C4-4B98-A581-27CE7552C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15BC1-3E46-4B5F-89A8-016659D07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39236-111F-4F22-808B-D9A064103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AC24-31D3-4B6F-A7EC-79C0E31688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C&#35828;&#26126;&#20070;.pdf" TargetMode="External"/><Relationship Id="rId2" Type="http://schemas.openxmlformats.org/officeDocument/2006/relationships/hyperlink" Target="file:///OPC&#35828;&#26126;&#20070;.pdf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79640" y="2181240"/>
            <a:ext cx="70866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 FOR PROCESS CONTRO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作为一种标准的通讯协议，被广大客户接受，并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本着开放的通讯理念，同样提供可作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设备通讯方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05600" y="1573200"/>
            <a:ext cx="1184400" cy="405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hlinkClick r:id="rId1"/>
              </a:rPr>
              <a:t>OPC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hlinkClick r:id="rId2"/>
              </a:rPr>
              <a:t>文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00F01-AFA8-4479-AF7A-B082F8BC3E87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2480" y="126216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选中需要发布的变量，窗口下面的五个选项全部打实勾。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该窗体，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也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重新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重新保存程序。这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产生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类型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49480" y="2482920"/>
            <a:ext cx="4986360" cy="4241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86200" y="5246640"/>
            <a:ext cx="1360440" cy="920880"/>
          </a:xfrm>
          <a:prstGeom prst="wedgeRoundRectCallout">
            <a:avLst>
              <a:gd name="adj1" fmla="val -159453"/>
              <a:gd name="adj2" fmla="val 3965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五个选项全部选中，注意全部打实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00240" y="5810400"/>
            <a:ext cx="309600" cy="930240"/>
          </a:xfrm>
          <a:prstGeom prst="wedgeEllipseCallout">
            <a:avLst>
              <a:gd name="adj1" fmla="val 12050"/>
              <a:gd name="adj2" fmla="val 1877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3657600"/>
            <a:ext cx="1952640" cy="1079640"/>
          </a:xfrm>
          <a:prstGeom prst="wedgeRoundRectCallout">
            <a:avLst>
              <a:gd name="adj1" fmla="val -75365"/>
              <a:gd name="adj2" fmla="val -5956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全部选中则发布所有变量。若只发布全局变量，则只需选中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lobal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AB13-3D07-4C2C-961E-408F100FF446}" type="slidenum">
              <a:t>10</a:t>
            </a:fld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Choose Run-Time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6200" y="1693800"/>
            <a:ext cx="5924520" cy="50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7FE81-630A-4609-839A-397D7767FE09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选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的系统，这里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80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46280" y="2104920"/>
            <a:ext cx="5025960" cy="31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C0EB6-C1AC-4579-BF3E-0C5C7464DF34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登录，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起来，这时可看到右下角的绿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9800" y="1855800"/>
            <a:ext cx="7724880" cy="497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36520" y="3157560"/>
            <a:ext cx="1011240" cy="652320"/>
          </a:xfrm>
          <a:prstGeom prst="wedgeRoundRectCallout">
            <a:avLst>
              <a:gd name="adj1" fmla="val 4629"/>
              <a:gd name="adj2" fmla="val -16459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25880" y="3100320"/>
            <a:ext cx="1119240" cy="733320"/>
          </a:xfrm>
          <a:prstGeom prst="wedgeRoundRectCallout">
            <a:avLst>
              <a:gd name="adj1" fmla="val -186597"/>
              <a:gd name="adj2" fmla="val -1465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ogi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8400" y="6442200"/>
            <a:ext cx="538200" cy="403200"/>
          </a:xfrm>
          <a:prstGeom prst="wedgeEllipseCallout">
            <a:avLst>
              <a:gd name="adj1" fmla="val -29648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A21B6-5064-4762-A7D4-25F5943221DD}" type="slidenum">
              <a:t>13</a:t>
            </a:fld>
          </a:p>
        </p:txBody>
      </p:sp>
    </p:spTree>
  </p:cSld>
  <p:transition spd="med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7280" y="1262160"/>
            <a:ext cx="80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装目录下的文件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TwinCAT\OPC\Server4\Samp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将文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拷贝一份到自定的文件夹中，例如放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所在的路径下，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。由于需要修改此文件，拷贝一份去修改以保持模板不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3440" y="2376360"/>
            <a:ext cx="57672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371840" y="4079880"/>
            <a:ext cx="1103400" cy="361800"/>
          </a:xfrm>
          <a:prstGeom prst="wedgeEllipseCallout">
            <a:avLst>
              <a:gd name="adj1" fmla="val -1078"/>
              <a:gd name="adj2" fmla="val -6138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F9BFE-FBC2-4A5C-B2AD-5D76D063BDC5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以记事本方式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修改此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7360" y="1609560"/>
            <a:ext cx="7829280" cy="5153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046160" y="4468680"/>
            <a:ext cx="6505560" cy="1729080"/>
          </a:xfrm>
          <a:prstGeom prst="wedgeRoundRectCallout">
            <a:avLst>
              <a:gd name="adj1" fmla="val -29356"/>
              <a:gd name="adj2" fmla="val 39347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95920" y="4513320"/>
            <a:ext cx="1522440" cy="1015920"/>
          </a:xfrm>
          <a:prstGeom prst="wedgeRoundRectCallout">
            <a:avLst>
              <a:gd name="adj1" fmla="val -48851"/>
              <a:gd name="adj2" fmla="val 2218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由于只发布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的变量，所以这部分删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1560" y="2894040"/>
            <a:ext cx="7043760" cy="1500120"/>
          </a:xfrm>
          <a:prstGeom prst="wedgeRoundRectCallout">
            <a:avLst>
              <a:gd name="adj1" fmla="val -29805"/>
              <a:gd name="adj2" fmla="val 50212"/>
              <a:gd name="adj3" fmla="val 16667"/>
            </a:avLst>
          </a:prstGeom>
          <a:noFill/>
          <a:ln w="9360">
            <a:solidFill>
              <a:srgbClr val="0b38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4640" y="2989440"/>
            <a:ext cx="1144440" cy="639720"/>
          </a:xfrm>
          <a:prstGeom prst="wedgeRoundRectCallout">
            <a:avLst>
              <a:gd name="adj1" fmla="val -29611"/>
              <a:gd name="adj2" fmla="val 4156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对这部分进行修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BDC5-B001-4EF3-8E07-711F7EBEC82D}" type="slidenum">
              <a:t>15</a:t>
            </a:fld>
          </a:p>
        </p:txBody>
      </p:sp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五、修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9200" y="1822320"/>
            <a:ext cx="879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Plc1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scription&gt;Plc Runtime system 1&lt;/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NetId&gt;0.0.0.0.0.0&lt;/AdsNetI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Port&gt;801&lt;/AdsPor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--AutoCfg = 1: Check "AutoCfgSymFile" and parse Symbol-File of PLC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&gt;1&lt;/AutoCfg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SymFile&gt;C:\TcOpcDemo\Versions\4.0.0.1\SampleLocal\opctest.sym &lt;/AutoCfgSymFi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92960" y="4081320"/>
            <a:ext cx="598932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修改内容说明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可自定设备名，例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也可使用确省的名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设备的注释，不必修改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设备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本机可使用确省的设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.0.0.0.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Por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设备的端口号。不同设备的端口号不同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端口号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机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设备不同此处添加的内容不同，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90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则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SymFi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要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程序的路径以及名称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\Intouch\plcOPC.sy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600" y="1816200"/>
            <a:ext cx="8377200" cy="20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200" y="4000680"/>
            <a:ext cx="8377200" cy="21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BC6E-CBDF-43BD-B5D6-93314CC7E6AB}" type="slidenum">
              <a:t>16</a:t>
            </a:fld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六、修改后要保存文件，修改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74800" y="1930320"/>
            <a:ext cx="7350120" cy="43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A74C-8362-498A-AE97-C8D2475C4B4A}" type="slidenum">
              <a:t>17</a:t>
            </a:fld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280" y="126216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七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4440" y="1928880"/>
            <a:ext cx="8115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2BF45-BE79-463B-B706-6CB8A1EECA27}" type="slidenum">
              <a:t>18</a:t>
            </a:fld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八、点击左侧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修改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打开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80960" y="2027160"/>
            <a:ext cx="7148520" cy="448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58960" y="4395960"/>
            <a:ext cx="1011240" cy="652320"/>
          </a:xfrm>
          <a:prstGeom prst="wedgeRoundRectCallout">
            <a:avLst>
              <a:gd name="adj1" fmla="val -75115"/>
              <a:gd name="adj2" fmla="val -1215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OPC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79760" y="4140360"/>
            <a:ext cx="1374840" cy="855360"/>
          </a:xfrm>
          <a:prstGeom prst="wedgeRoundRectCallout">
            <a:avLst>
              <a:gd name="adj1" fmla="val -74365"/>
              <a:gd name="adj2" fmla="val 119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选中修改的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文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40320" y="4138560"/>
            <a:ext cx="1011240" cy="652680"/>
          </a:xfrm>
          <a:prstGeom prst="wedgeRoundRectCallout">
            <a:avLst>
              <a:gd name="adj1" fmla="val 57694"/>
              <a:gd name="adj2" fmla="val 1507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打开按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63419-700D-449B-936C-EE4C94AB0F21}" type="slidenum">
              <a:t>19</a:t>
            </a:fld>
          </a:p>
        </p:txBody>
      </p:sp>
    </p:spTree>
  </p:cSld>
  <p:transition spd="med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6120" y="2008080"/>
            <a:ext cx="616896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95560" y="2930400"/>
            <a:ext cx="2359080" cy="3551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2480" y="1262160"/>
            <a:ext cx="65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点击桌面右下角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99400" y="2770200"/>
            <a:ext cx="414360" cy="365040"/>
          </a:xfrm>
          <a:prstGeom prst="wedgeEllipseCallout">
            <a:avLst>
              <a:gd name="adj1" fmla="val -151148"/>
              <a:gd name="adj2" fmla="val -154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05440" y="4114800"/>
            <a:ext cx="430200" cy="392040"/>
          </a:xfrm>
          <a:prstGeom prst="wedgeEllipseCallout">
            <a:avLst>
              <a:gd name="adj1" fmla="val -259592"/>
              <a:gd name="adj2" fmla="val -130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F789-860F-4375-A2D0-F69206516A1D}" type="slidenum">
              <a:t>2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280" y="1262160"/>
            <a:ext cx="801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九、弹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successfully activate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息窗口，点击确定。至此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发布完毕。现在可以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进行测试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186000" y="2847960"/>
            <a:ext cx="2772000" cy="11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7AE5-6FD1-473C-80A7-BEAD3568BA67}" type="slidenum">
              <a:t>20</a:t>
            </a:fld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49440" y="2660760"/>
            <a:ext cx="434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18CE9-6519-4886-B4E2-FF8EA30BB9E5}" type="slidenum">
              <a:t>21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5680" y="1824120"/>
            <a:ext cx="8426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073480" y="2769480"/>
            <a:ext cx="760680" cy="560520"/>
          </a:xfrm>
          <a:prstGeom prst="wedgeRoundRectCallout">
            <a:avLst>
              <a:gd name="adj1" fmla="val -117018"/>
              <a:gd name="adj2" fmla="val 7974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激活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200" y="1276200"/>
            <a:ext cx="82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17BA7-7981-4ACC-8CDC-2F37656C4475}" type="slidenum">
              <a:t>3</a:t>
            </a:fld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5240" y="1751040"/>
            <a:ext cx="3687480" cy="118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1000" y="1305000"/>
            <a:ext cx="84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弹出的窗体上点击确定，则可看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右下角出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66760" y="3049560"/>
            <a:ext cx="6458040" cy="3556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45320" y="6283440"/>
            <a:ext cx="772920" cy="403200"/>
          </a:xfrm>
          <a:prstGeom prst="wedgeEllipseCallout">
            <a:avLst>
              <a:gd name="adj1" fmla="val -35833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D3780-9077-45D3-A282-F897DC2C31A8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4880" y="1903320"/>
            <a:ext cx="2109600" cy="3259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52480" y="1262160"/>
            <a:ext cx="7769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再次点击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02080" y="2970360"/>
            <a:ext cx="1587600" cy="757080"/>
          </a:xfrm>
          <a:prstGeom prst="wedgeRoundRectCallout">
            <a:avLst>
              <a:gd name="adj1" fmla="val -72601"/>
              <a:gd name="adj2" fmla="val -5272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打开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winCAT PLC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49ECE-EAA5-4FC9-8C9A-919DC4FA7670}" type="slidenum">
              <a:t>5</a:t>
            </a:fld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52480" y="1736640"/>
            <a:ext cx="7826400" cy="476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定义变量，编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43CAB-B089-42A4-923E-BEA0D3443079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52480" y="1262160"/>
            <a:ext cx="7378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保存程序，例如保存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，文件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2160" y="1981080"/>
            <a:ext cx="514656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D121-E676-407B-B105-026937C763DF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06640" y="1604880"/>
            <a:ext cx="48196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E6A8-CE59-49DC-AD3F-AE7420FE0A34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52480" y="1262160"/>
            <a:ext cx="73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 symbol entri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点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symbol file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2400" y="1973160"/>
            <a:ext cx="7153200" cy="448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7200" y="2830680"/>
            <a:ext cx="739800" cy="649080"/>
          </a:xfrm>
          <a:prstGeom prst="wedgeRoundRectCallout">
            <a:avLst>
              <a:gd name="adj1" fmla="val -125749"/>
              <a:gd name="adj2" fmla="val -5318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打勾选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91040" y="4140360"/>
            <a:ext cx="417600" cy="392040"/>
          </a:xfrm>
          <a:prstGeom prst="wedgeEllipseCallout">
            <a:avLst>
              <a:gd name="adj1" fmla="val -224523"/>
              <a:gd name="adj2" fmla="val -170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376FC-1AF2-4C28-B0D8-028E3C241E67}" type="slidenum">
              <a:t>9</a:t>
            </a:fld>
          </a:p>
        </p:txBody>
      </p:sp>
    </p:spTree>
  </p:cSld>
  <p:transition spd="med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30:59Z</dcterms:modified>
  <cp:revision>363</cp:revision>
  <dc:subject/>
  <dc:title>Kein Folientitel</dc:title>
</cp:coreProperties>
</file>